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02A6A5B-4273-4EA3-84A6-8E499AAAA85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F59105-5E9F-41B5-A17B-84F3FE69C5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F10C949-CA26-4226-B087-30B85D5A491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7CC3542-1A0D-4DAA-9A89-F674BF4017A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67E9321-33BD-47A0-A30B-03CB185DDA1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42B300-D41A-41B6-A892-62476495818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C476FFB-67C6-491E-9C41-E8FD7E3D8EB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FEAE8AA-C527-4C43-B724-6D4E4ECE808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D5CF57D-A842-41E7-9F87-8D9E6A687B1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AADF689-1824-4EE8-9406-B601BB863B2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F68F6E0-8515-4BCA-ADC2-4A16C1DCD0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AA840A-5758-4D04-9442-CEAAC770F9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5E2ED83-F474-4CE5-9E4E-AF6C5AB6D8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25BEE3E-68E2-42E8-8CAB-E27D737F0D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F9390C5-A042-4E72-8234-EB533743D81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E5AD127-A233-439B-B2B0-130537F31CAF}"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14E7DC-4AC4-429C-B6C0-05BECA8F6EF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EBC9C7-6E8E-48BB-88D9-46EE1000DD9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6F62B8F-7571-4A07-97BE-B450493F10B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747C92-8E76-4181-BCB4-3F885C04AD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5FF410-D095-45A0-8D15-C399DA24D70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5CBB52-1D38-4BF7-B77F-D8C8D5769B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41AC9A-08B2-4F91-AEFE-A4093C95825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C5FEC90-3419-41EB-B1F2-3CAE66E02494}"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5204E5-7845-4CAB-BC1A-6AC0FE8FDE6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82423A-CB6F-4FF5-A5BA-8DCCF31AD4E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86B43A6-A656-4AB6-B262-703C92247F60}"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34FBD46F-A344-4EB8-8B03-AB7AC6D2EC0B}"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E78DD-72C7-479D-94B6-26999D498356}"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1E07F2-269B-4AEC-B9B6-34EBD2063226}"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E8750D-6DC8-451C-BE06-F5C78EDEE5E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C2BAB1-44D3-4C59-811E-826785A43523}"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CE360-F172-42B2-BB05-234481A54049}"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2EAA02-5E10-4ED9-B650-019367A1FEBE}"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8EE9CF-F158-4939-9CE9-74AC1A57E4A4}"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AE94D8-0C9E-4B7E-A1B8-2F881B39F8CF}"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A38BAD-271E-47C1-BA4F-0E6BDFFE160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173983-79C4-4DC3-BC0C-71661125E952}"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360AF6-B0B3-425D-83D6-1A265BD6528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1EF875-F674-487A-BE26-F492646EB8B8}"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A71981-A4DA-484F-94D5-0166CD0BC034}"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391B0-97CB-44AA-B32B-F0E02626E0F7}"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1B94E8-B727-46BD-A5EE-3B046D16384C}"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81E70F-A63C-4647-A4A3-5B28F1A00116}"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99A064-9303-4DA1-95A1-00E0377E12CF}"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27E36B-F5EF-4D06-A254-F7CFD44AAFD1}"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C491E1-5023-44F2-83DA-718980315672}"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DE30B1-79D4-4DF7-9905-4B656A47480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C297AA-1DCB-4A12-9253-F89351A72EC1}"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F43A2-81D7-493F-9EB0-3E2479F4C1BB}"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68C5BD2-4334-48CE-B073-C29B6A2B2473}"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D32E9E-CD28-448F-82C0-120D73DD35DD}"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29F8CE-3D23-456A-911A-0EE05E520262}"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806616C-0630-4458-B835-1B02CC32CE3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0677D5-8A74-42C5-8814-EC58BA6EF652}"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2FCA7C-451E-4F0F-9B35-6BFEBFCAFC9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8B86C1-1C42-4B37-94F1-27D6EB606EC9}"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578869-9A2F-4668-9FBF-EC415608A6D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13D5AB-6592-4957-9CC2-B6F23D45B9A2}"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9D34E8-D1D5-45BD-9415-9CDCE8C46028}"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741D2D-486C-46EB-826E-B21A1BADB59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4620E1-D71C-47E6-B9A1-8C470D4C545A}"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07BB2-3FE5-40BB-B2EE-9BD3D7882592}"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84FE8F-38F7-45E2-BB9F-157A934EAABA}"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B76463-F32A-4B7D-80B6-A3C6BA23462A}"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D347B2-97EA-4804-8AEE-3C784EDC865A}"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58CA5-0FBC-48BC-804F-ACB0AA2E1DAD}"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2965D0-23C1-4DCE-9BC9-4A224C1444EF}"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6D189B-D6FE-4814-A9DE-2C770B523F14}"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AEAFDD-C4E7-49A5-BDE6-A5FC4C229F55}"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5779A4-9F7F-46A9-854A-8A20DC71582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94A5B9-D99E-44E7-9D58-E0462192CC84}"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82EFB5-E4AF-4355-B038-AE97A02139C9}"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FBF21E-2557-4C61-9742-7E2AD74D8788}"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9D47A02-D89E-4FC5-ABA1-CB6E64299D2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8DCC5D-03F2-4C9A-A6D5-9850E2B28EA1}"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8FC9EB-0DC6-4A0D-BDD9-8E31F74DC2F2}"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6FDAAF7-86D9-413E-A0BE-A25695607E4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096D4A-46B0-4F8E-9754-E6B737EF160E}"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8D36A7-550C-473B-A157-05441B1C97B2}"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069AC8-756D-49F7-B591-09F1D95BC464}"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909CCB-6C70-4F1C-9072-9ECAD1482B5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2BBF1-9F6D-4758-B655-DEAF91672132}"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919BC-D0A7-4416-B84B-4DBF05240891}"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55B5AD-CBE9-43C6-9209-D67FB83D2EB2}"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DD1225E-744B-4BB2-9AA2-FD3FF15555D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54E222-31BC-419A-8FF3-D24B5C31FECB}"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E89C7-2AA4-41AC-A9FD-9EECE464D53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529A13-C064-430D-AE87-C9EC08DB47B6}"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4689E6-1E3A-44AC-BC49-20244813D04F}"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B82523-33DC-4501-B4E2-9B5FE7A895C4}"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4EB5163-85F1-4420-9300-4425764D26E3}"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ABD0F6-8EA3-47E8-8FEC-6251F14F5D62}"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1D077-7EBA-427F-8E42-E91E0C20AB32}"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CD47F6-2C6A-4B82-9DAC-EC02741A7087}"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74CD5D5-622F-44EC-B454-B9D8EA55B550}"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96F8D02-6C9D-419F-BDA4-B662337AC75E}"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988468-1799-4C61-A224-B4A25EA4912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BD654B-EDBE-49CF-A65B-56F7C95DDF77}"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5223B8-3D04-4B9B-AAE9-6C5E3177FEF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4383FC-D00C-4969-BB51-43A830562AF9}"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6868D2-92FF-4196-BA2F-10A8E9BDEB5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74AC58-4BBC-4084-898D-C86DDE30A660}"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E895B29-BB6D-4D82-B25A-32DB7B567096}"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90E805-E493-4320-AF04-9C8E459C33CF}"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291DE3-9FB1-4D72-9698-F81D82F7D30A}"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8032F4-D49C-4B70-A733-8DAF8CBC1EFF}"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0587654-C7A1-463D-BD70-9524F06599DC}"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864335-9E6A-415F-B9F4-29042305D1D4}"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44AC368-7AE9-4053-8EAC-62A146B88EAF}"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EBED9-F80B-4725-BFC9-9D577FC67925}"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92185-C1A3-44A4-BC1C-0C76A2BAFAA7}"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F6811-F36A-45CF-97DD-51CE5CD5FDB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2B8F93-BF58-4E26-BCDD-EAFFD68D93DB}"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FDE647-8D30-434D-BB1A-47E9CC133598}"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9C9391-2EA6-4D74-AAB5-8E2DC810FCC3}"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430C1F-0C19-4090-B77F-9B4A381DA493}"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8C272B-AC9F-42EF-A29F-3FA54B55528D}"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52EAFC-01CE-4275-ABE6-6B04EB08458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E9E6BB-2ADE-4FEC-B585-9BD762EF4C9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C6EEA1-1EC3-414A-A80C-C6026215891D}"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85214E-A8D0-46CB-8F3C-D89A6E051974}"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846158-DD7A-43D7-8CBB-79FBAD86F277}"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D0BEDA-1234-4085-A869-CB33571D606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9022E6-FF52-4269-853C-A853EB5E39D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DF9C608-2E31-4FF7-90FA-68622A582B8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077C02-7701-45D6-89D6-52EE2BB14CD5}"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CDC6A0-801D-4BD9-9B24-1AEC098A74F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2B3A18-DE69-466F-AF86-B8763C5FF66C}"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97476C-AFA3-4643-837C-6B5A0C526E48}"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7A3517-3280-441E-9B88-F16745DF0307}"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4CAD5E-45C2-4CBC-A400-C4709399E60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1BCECB-51B5-4624-95B3-6AAAA5E467B5}"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08534A-AAD2-44E2-A6F6-835AA347266F}"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7D6888-189E-4018-B98A-FF36EC1D79A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32C814-2703-463F-8400-9F16185BC2F3}"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CC6029-B6F6-4A41-9F5D-726AB1F7507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9BE7B5-F188-47F0-9D91-FD77321716F9}"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0D154-0ACE-4F76-A508-2EB180CB7314}"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98A3C6-91C8-4943-8CEF-CBC2E0B193D5}"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32B489-8109-4BD2-B307-2BBC3EC2B89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6876B3-34D1-479E-809D-A74B2ACAD54D}"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0F9EF-BE4B-47E4-A908-C7FB5BA90097}"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319FEC-2C93-47D7-8368-9D6C7498217A}"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2DCB7-F926-4949-A9CD-71E3F82F70CF}"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8275E2-04A5-49D1-A07A-4A103794752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41030-CD30-4A6B-B61C-5970B814BBEC}"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018B77-77D5-4E83-8DF7-BD9FEDC7B61A}"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A1EC9C-22AE-4D68-9556-B4B90413DE37}"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F34461-767C-4303-87C3-23E964E5E3D8}"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6EEE37-F220-4BA0-B39C-1219FF77B247}"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BAC28-9976-4F5D-8AE2-9C202B102D6F}"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FC1B7A-C726-475E-87E1-C7E8B9C53A6C}"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0749082-2735-4861-BA66-F989F1A2F77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C0F6F4-9770-41DA-9272-4EEC4DE76D19}"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517B57-7656-433D-8194-EDDE0DF07D4F}"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4ABDFD-0B32-45F3-B6B7-11F6AE0F0108}"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EC096-4109-4C00-BC83-44716C9A0922}"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5AC370-594B-4C74-811C-58BF8D9D0198}"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6035D-F3B2-46DD-9F24-2C8A0CCE077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E4DBC5F-6C46-447D-B6D5-6CA25C4929F9}"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AB650-039D-4AE4-955E-7B3E45D59F7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E5481B-9572-4AAE-AFC2-C4DE581C475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AC2E2-46B5-42BC-88CB-26FBBB832EE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D8AE06-326E-40B1-B9B4-0DF614B7E99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3BB040-E5D6-44D6-AF23-FBFCDD1E41D0}"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1D22A-3E89-477B-9E69-06369B191EDD}"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5064B4-441A-4FAA-B6C9-AF6C9864C88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DA7633-7AB5-415E-9C71-D2ED8BD5179A}"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246739-1188-4DEE-B71B-4C7B712E7158}"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90398B-8634-47EC-BD0E-EE2D726FC544}"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6BEB3E-6CAD-44FF-A6B7-D192EBA4C3DA}"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48A3EE-5808-4BF7-90D9-E39A8A4A747F}"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A252E0-4B82-4992-9B51-8B8E4FF0F360}"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AB81DD-0542-42B0-81CF-2081EE3F0C3B}"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DB52A5-DB84-4A12-BDCA-290D02DA7C79}"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6D3C7B-EDDC-4076-A7A0-9A2ADA9A9BC2}"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18F10C-8478-4D9D-ACEF-B7E6AF3B1AE9}"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01A8A2-DE04-4346-B339-9431D77C5BA0}"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540489-3686-4D0A-85F3-5BF640A49BAD}"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54756E-7259-4C44-8291-183B95AEDF28}"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012DEC-13A1-432F-A243-50B82678E9A9}"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F96B17-89B4-42CE-AFA5-B0D769C41FD5}"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A4F441-68EE-4491-9E03-0AAC14198EE0}"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8CEF5F-8DD2-4728-8F45-C7B192B03FDC}"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7CB0A-3C09-4460-BDFD-AA58944F49F4}"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ACB4A8-6E1C-4597-93B6-DA7CF3DE5BBE}"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2D96A4-E1FD-4061-A9AD-4896A57166DC}"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4F1D8-6769-4866-81D2-ED453B2EE233}"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89684C-5507-4410-92F6-C2B5F3F76004}"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80ADE5-88CD-4F34-A95B-DFC318BD9756}"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B4DA92-84DA-475F-8715-25F40983F78A}"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827E28-3497-43EA-8FB3-33B47C0CE8BB}"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FC2CC5-EBC4-445A-83B5-EC6DA4390849}"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FF617-4487-45E2-B46E-1EB1AE756BC8}"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11013-801E-4AC0-98A0-E0549712818B}"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DB3EA5-005E-47F2-ADAB-2FA7ECC53DEE}"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3B1C96-196C-4A31-B1A0-3D41058BCDD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BD6DB7-32D5-4509-BB82-883B3961C1C1}"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DD6407-CFFD-47E2-8AC3-6A38685E1EE5}"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522FDF-52E8-4015-A025-5F3BDD46C9E2}"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801B88-BF13-4F26-A894-260DD9EBED18}"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71B177-3824-4C03-9883-AFD5B26AB71D}"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C7D0DD-FF88-4A6A-8229-A7E04CBFD460}"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7F3E9A-BF1D-4539-BE88-2EE5951F9A5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609EA6-654D-4928-806E-389C8D37B128}"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DCBD7D-C943-4284-9862-367626DBC72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A269E-071D-4F16-9D73-AAC64E5AFE1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B684CE-1F10-4EDF-84DE-BDA51C9930AD}"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DAB98-482A-441A-9D72-205E79A9597F}"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6FAC9BF-FD52-4348-9D48-EB6D137C849A}"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722CE4-138A-478A-809A-E7CEC46464A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0D7D76-80AE-46E2-8237-54C3AB26850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EA8343-730C-4D54-8ADD-F61FAE6130F6}"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64744A-5936-421B-B37A-0D5D27E3ABDE}"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811751-AF0D-4F54-8A84-7FA0A9FE24CC}"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F039AF-31B8-42AE-B4D1-255D3F8B8EEC}"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5BFA10-EAF0-4D4E-A176-F78939D8082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EFAFF9-07AC-450F-A8C0-718982827E45}"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D11959-A3B4-44EF-92F8-D149BF6CB40C}"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028D60-A697-4ECF-9FBD-258DC956EE65}"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672DFD-6CAE-40DF-ADF5-7BBCC6477EE2}"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82480D-97C3-4CA6-985B-9BE9CB285E1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0A8A09-23F7-4AE8-81EE-4B5D80C7C0F4}"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FF973E-D183-49C3-BE6D-DA08B9B51722}"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053678A-D1B4-4D24-9D74-2E4AA92FF30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BB1B3-D00C-46C5-8E6C-DBB82010D5B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1E7542-DEC1-4DFA-8802-6C03408CBEFC}"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737D36-036E-4FC4-930C-3BD9F69EF678}"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0CEAE7-D7D7-4B06-A87B-E9A2E041AB1D}"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2098D1-6CD1-4B3A-BEC2-59BD57F9B3B9}"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763A2-636A-46F7-B937-80D703F3515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4B399B-FB9F-47D9-BA26-46513E240298}"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D664E-135F-467A-9C9B-3E55B2CCF09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F65B8C-9C5E-4D9D-BD39-3AD18B0591B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BAD682-D42E-4C36-9248-F4352E3822CE}"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178B55-E561-4CA1-A99B-B197B76DF4D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D7DF57-DFB9-4ABC-AE46-0F13E9BA56AC}"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68D3E6-D54B-4F95-B3B5-8C88D8E651F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